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A46E-1282-46F3-8D7B-771D121AB3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457200"/>
            <a:ext cx="4572000" cy="3429000"/>
          </a:xfrm>
          <a:prstGeom prst="rect">
            <a:avLst/>
          </a:prstGeom>
          <a:ln w="0">
            <a:noFill/>
          </a:ln>
        </p:spPr>
      </p:sp>
      <p:sp>
        <p:nvSpPr>
          <p:cNvPr id="1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networking mechanisms and concepts implemented inside the Windows operating system. Students are expected to carry out Labs in addition to studying the learning materials in Unit O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 A: Windows Network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19320" y="457200"/>
            <a:ext cx="4572000" cy="3429000"/>
          </a:xfrm>
          <a:prstGeom prst="rect">
            <a:avLst/>
          </a:prstGeom>
          <a:ln w="0">
            <a:noFill/>
          </a:ln>
        </p:spPr>
      </p:sp>
      <p:sp>
        <p:nvSpPr>
          <p:cNvPr id="10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insock 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Sockets Configuration utility (Sporder.exe) included with the Platform  SDK shows the registered Winsock transport and namespace providers and allows you  to change the order in which transport service providers are enumerated. For example,  if there are two TCP/IP transport service providers, the first one listed is the default provider for Winsock applications using the TCP/IP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8" name="" descr=""/>
          <p:cNvPicPr/>
          <p:nvPr/>
        </p:nvPicPr>
        <p:blipFill>
          <a:blip r:embed="rId1"/>
          <a:stretch/>
        </p:blipFill>
        <p:spPr>
          <a:xfrm>
            <a:off x="1295280" y="5334120"/>
            <a:ext cx="4197600" cy="35208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19320" y="457200"/>
            <a:ext cx="4572000" cy="3429000"/>
          </a:xfrm>
          <a:prstGeom prst="rect">
            <a:avLst/>
          </a:prstGeom>
          <a:ln w="0">
            <a:noFill/>
          </a:ln>
        </p:spPr>
      </p:sp>
      <p:sp>
        <p:nvSpPr>
          <p:cNvPr id="11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Named Pipe Namespace and Watching Activity </a:t>
            </a:r>
            <a:endParaRPr b="0" lang="en-US" sz="12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ossible to use the Windows API to open the root of the named pipe FSD and  perform a directory listing, but you can do this by using native API services. The PipeList  tool from www.sysinternals.com shows you the names of the named pipes defined on a  computer as well as the number of instances that have been created for a name and the  maximum number of instances as defined by a server’s call to CreateNamedPipe. Here’s  an example of PipeList output: </a:t>
            </a:r>
            <a:endParaRPr b="0" lang="en-US" sz="1200" spc="-1" strike="noStrike">
              <a:solidFill>
                <a:srgbClr val="000000"/>
              </a:solidFill>
              <a:latin typeface="Arial"/>
            </a:endParaRPr>
          </a:p>
          <a:p>
            <a:pPr indent="0">
              <a:lnSpc>
                <a:spcPct val="100000"/>
              </a:lnSpc>
              <a:spcBef>
                <a:spcPts val="374"/>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ipelist    </a:t>
            </a:r>
            <a:br>
              <a:rPr sz="1000"/>
            </a:br>
            <a:r>
              <a:rPr b="0" lang="en-US" sz="1000" spc="-1" strike="noStrike">
                <a:solidFill>
                  <a:srgbClr val="000000"/>
                </a:solidFill>
                <a:latin typeface="Courier New"/>
              </a:rPr>
              <a:t>PipeList v1.01  byMark Russinovich  http://www.sysinternals.com    </a:t>
            </a:r>
            <a:br>
              <a:rPr sz="1000"/>
            </a:br>
            <a:r>
              <a:rPr b="0" lang="en-US" sz="1000" spc="-1" strike="noStrike">
                <a:solidFill>
                  <a:srgbClr val="000000"/>
                </a:solidFill>
                <a:latin typeface="Courier New"/>
              </a:rPr>
              <a:t>Pipe Name </a:t>
            </a:r>
            <a:r>
              <a:rPr b="0" lang="en-US" sz="1000" spc="-1" strike="noStrike">
                <a:solidFill>
                  <a:srgbClr val="000000"/>
                </a:solidFill>
                <a:latin typeface="Courier New"/>
              </a:rPr>
              <a:t>	</a:t>
            </a:r>
            <a:r>
              <a:rPr b="0" lang="en-US" sz="1000" spc="-1" strike="noStrike">
                <a:solidFill>
                  <a:srgbClr val="000000"/>
                </a:solidFill>
                <a:latin typeface="Courier New"/>
              </a:rPr>
              <a:t>Instances </a:t>
            </a:r>
            <a:r>
              <a:rPr b="0" lang="en-US" sz="1000" spc="-1" strike="noStrike">
                <a:solidFill>
                  <a:srgbClr val="000000"/>
                </a:solidFill>
                <a:latin typeface="Courier New"/>
              </a:rPr>
              <a:t>	</a:t>
            </a:r>
            <a:r>
              <a:rPr b="0" lang="en-US" sz="1000" spc="-1" strike="noStrike">
                <a:solidFill>
                  <a:srgbClr val="000000"/>
                </a:solidFill>
                <a:latin typeface="Courier New"/>
              </a:rPr>
              <a:t>Max Instance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TerminalServer\AutoReconnect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InitShutdown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lsass </a:t>
            </a:r>
            <a:r>
              <a:rPr b="0" lang="en-US" sz="1000" spc="-1" strike="noStrike">
                <a:solidFill>
                  <a:srgbClr val="000000"/>
                </a:solidFill>
                <a:latin typeface="Courier New"/>
              </a:rPr>
              <a:t>	</a:t>
            </a:r>
            <a:r>
              <a:rPr b="0" lang="en-US" sz="1000" spc="-1" strike="noStrike">
                <a:solidFill>
                  <a:srgbClr val="000000"/>
                </a:solidFill>
                <a:latin typeface="Courier New"/>
              </a:rPr>
              <a:t>4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protected_storage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tsvcs </a:t>
            </a:r>
            <a:r>
              <a:rPr b="0" lang="en-US" sz="1000" spc="-1" strike="noStrike">
                <a:solidFill>
                  <a:srgbClr val="000000"/>
                </a:solidFill>
                <a:latin typeface="Courier New"/>
              </a:rPr>
              <a:t>	</a:t>
            </a:r>
            <a:r>
              <a:rPr b="0" lang="en-US" sz="1000" spc="-1" strike="noStrike">
                <a:solidFill>
                  <a:srgbClr val="000000"/>
                </a:solidFill>
                <a:latin typeface="Courier New"/>
              </a:rPr>
              <a:t>58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scerpc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1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2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ExtEventPipe_Service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30   </a:t>
            </a:r>
            <a:br>
              <a:rPr sz="1000"/>
            </a:br>
            <a:r>
              <a:rPr b="0" lang="en-US" sz="1000" spc="-1" strike="noStrike">
                <a:solidFill>
                  <a:srgbClr val="000000"/>
                </a:solidFill>
                <a:latin typeface="Courier New"/>
              </a:rPr>
              <a:t>...</a:t>
            </a:r>
            <a:endParaRPr b="0" lang="en-US" sz="10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mon file system filter driver from www.sysinternals.com is able to attach to either the Npfs.sys or Msfs.sys file system  drivers and to therefore see all named pipe or mailslot activity occurring on a system.  Select the Named Pipes or Mail Slots menu entries from Filemon’s Drives menu to have  Filemon attach to the corresponding driv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19320" y="457200"/>
            <a:ext cx="4572000" cy="3429000"/>
          </a:xfrm>
          <a:prstGeom prst="rect">
            <a:avLst/>
          </a:prstGeom>
          <a:ln w="0">
            <a:noFill/>
          </a:ln>
        </p:spPr>
      </p:sp>
      <p:sp>
        <p:nvSpPr>
          <p:cNvPr id="11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btstat to See NetBIOS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use the Nbtstat command, which is included with Windows, to list the active  sessions on a system, the NetBIOS-to-TCP/IP name mappings cached on a computer,  and the NetBIOS names defined on a computer. Here’s an example of the Nbtstat command with the –n option, which lists the NetBIOS names defined on the compu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nbtstat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cal Area Connection:</a:t>
            </a:r>
            <a:br>
              <a:rPr sz="1200"/>
            </a:br>
            <a:r>
              <a:rPr b="0" lang="en-US" sz="1200" spc="-1" strike="noStrike">
                <a:solidFill>
                  <a:srgbClr val="000000"/>
                </a:solidFill>
                <a:latin typeface="Courier New"/>
              </a:rPr>
              <a:t>Node IpAddress: [192.168.131.65] Scope I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tBIOS Local Name T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Type         Stat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br>
              <a:rPr sz="1200"/>
            </a:br>
            <a:r>
              <a:rPr b="0" lang="en-US" sz="1200" spc="-1" strike="noStrike">
                <a:solidFill>
                  <a:srgbClr val="000000"/>
                </a:solidFill>
                <a:latin typeface="Courier New"/>
              </a:rPr>
              <a:t>    FIN            &lt;00&gt;  UNIQUE      Registered</a:t>
            </a:r>
            <a:br>
              <a:rPr sz="1200"/>
            </a:br>
            <a:r>
              <a:rPr b="0" lang="en-US" sz="1200" spc="-1" strike="noStrike">
                <a:solidFill>
                  <a:srgbClr val="000000"/>
                </a:solidFill>
                <a:latin typeface="Courier New"/>
              </a:rPr>
              <a:t>    WORKGROUP      &lt;00&gt;  GROUP       Registered</a:t>
            </a:r>
            <a:br>
              <a:rPr sz="1200"/>
            </a:br>
            <a:r>
              <a:rPr b="0" lang="en-US" sz="1200" spc="-1" strike="noStrike">
                <a:solidFill>
                  <a:srgbClr val="000000"/>
                </a:solidFill>
                <a:latin typeface="Courier New"/>
              </a:rPr>
              <a:t>    FIN            &lt;20&gt;  UNIQUE      Registered</a:t>
            </a:r>
            <a:br>
              <a:rPr sz="1200"/>
            </a:br>
            <a:r>
              <a:rPr b="0" lang="en-US" sz="1200" spc="-1" strike="noStrike">
                <a:solidFill>
                  <a:srgbClr val="000000"/>
                </a:solidFill>
                <a:latin typeface="Courier New"/>
              </a:rPr>
              <a:t>    FIN            &lt;03&gt;  UNIQUE      Registered</a:t>
            </a:r>
            <a:br>
              <a:rPr sz="1200"/>
            </a:br>
            <a:r>
              <a:rPr b="0" lang="en-US" sz="1200" spc="-1" strike="noStrike">
                <a:solidFill>
                  <a:srgbClr val="000000"/>
                </a:solidFill>
                <a:latin typeface="Courier New"/>
              </a:rPr>
              <a:t>    WORKGROUP      &lt;1E&gt;  GROUP       Registered</a:t>
            </a:r>
            <a:br>
              <a:rPr sz="1200"/>
            </a:br>
            <a:r>
              <a:rPr b="0" lang="en-US" sz="1200" spc="-1" strike="noStrike">
                <a:solidFill>
                  <a:srgbClr val="000000"/>
                </a:solidFill>
                <a:latin typeface="Courier New"/>
              </a:rPr>
              <a:t>    WORKGROUP      &lt;1D&gt;  UNIQUE      Registered</a:t>
            </a:r>
            <a:br>
              <a:rPr sz="1200"/>
            </a:br>
            <a:r>
              <a:rPr b="0" lang="en-US" sz="1200" spc="-1" strike="noStrike">
                <a:solidFill>
                  <a:srgbClr val="000000"/>
                </a:solidFill>
                <a:latin typeface="Courier New"/>
              </a:rPr>
              <a:t>    ..__MSBROWSE__.&lt;01&gt;  GROUP       Registered</a:t>
            </a:r>
            <a:br>
              <a:rPr sz="1200"/>
            </a:br>
            <a:r>
              <a:rPr b="0" lang="en-US" sz="1200" spc="-1" strike="noStrike">
                <a:solidFill>
                  <a:srgbClr val="000000"/>
                </a:solidFill>
                <a:latin typeface="Courier New"/>
              </a:rPr>
              <a:t>    ANDREAS        &lt;03&gt;  UNIQUE      Reg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TDI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Imon, a utility from www.sysinternals.com, is a form of filter driver that attaches to the  \Device\Tcp and \Device\Udp device objects that the TCP/IP driver creates. After  attaching, TDImon sees every IRP that TDI clients issue to these protocols. By intercepting TDI client event callback registration, it also monitors event callbacks. The TDImon  driver sends information about the TDI activity for display in its GUI, where you can see  the time of an operation, the type of TDI activity that took place, the local and remote  addresses of a TCP connection or the local address of a UDP endpoint, the resulting status code of the IRP or event callback, and additional information such as the number of  bytes sent or received. Here’s a screen shot of TDImon watching the TDI activity that is  generated when Microsoft Internet Explorer browses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vidence that TDI operations are inherently asynchronous, the PENDING codes in  the Result column indicate that an operation initiated but that the IRP defining the operation hasn’t yet completed. </a:t>
            </a:r>
            <a:endParaRPr b="0" lang="en-US" sz="1200" spc="-1" strike="noStrike">
              <a:solidFill>
                <a:srgbClr val="000000"/>
              </a:solidFill>
              <a:latin typeface="Arial"/>
            </a:endParaRPr>
          </a:p>
        </p:txBody>
      </p:sp>
      <p:pic>
        <p:nvPicPr>
          <p:cNvPr id="115" name="" descr=""/>
          <p:cNvPicPr/>
          <p:nvPr/>
        </p:nvPicPr>
        <p:blipFill>
          <a:blip r:embed="rId1"/>
          <a:stretch/>
        </p:blipFill>
        <p:spPr>
          <a:xfrm>
            <a:off x="914400" y="6095880"/>
            <a:ext cx="4724280" cy="21495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Loaded NDIS Mini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diskd kernel debugger extension library includes the !miniports and !miniport  commands, which let you list the loaded miniports using a kernel debugger and, given  the address of a miniport block (a data structure Windows uses to track miniports), see  detailed information about the miniport driver. The following example shows the  !miniports and !miniport commands being used to list all the miniports and then specifics about the miniport responsible for interfacing the system to a PCI Ethernet adapter.  (Note that WAN miniport drivers work with dial-up connections.) </a:t>
            </a:r>
            <a:br>
              <a:rPr sz="1200"/>
            </a:b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loadndiskd </a:t>
            </a:r>
            <a:br>
              <a:rPr sz="1000"/>
            </a:br>
            <a:r>
              <a:rPr b="0" lang="en-US" sz="1000" spc="-1" strike="noStrike">
                <a:solidFill>
                  <a:srgbClr val="000000"/>
                </a:solidFill>
                <a:latin typeface="Courier New"/>
              </a:rPr>
              <a:t> Loaded ndiskd extension DLL    </a:t>
            </a:r>
            <a:br>
              <a:rPr sz="1000"/>
            </a:br>
            <a:r>
              <a:rPr b="0" lang="en-US" sz="1000" spc="-1" strike="noStrike">
                <a:solidFill>
                  <a:srgbClr val="000000"/>
                </a:solidFill>
                <a:latin typeface="Courier New"/>
              </a:rPr>
              <a:t>kd&gt; !miniports  </a:t>
            </a:r>
            <a:br>
              <a:rPr sz="1000"/>
            </a:br>
            <a:r>
              <a:rPr b="0" lang="en-US" sz="1000" spc="-1" strike="noStrike">
                <a:solidFill>
                  <a:srgbClr val="000000"/>
                </a:solidFill>
                <a:latin typeface="Courier New"/>
              </a:rPr>
              <a:t>Driver verifierlevel: 0  </a:t>
            </a:r>
            <a:br>
              <a:rPr sz="1000"/>
            </a:br>
            <a:r>
              <a:rPr b="0" lang="en-US" sz="1000" spc="-1" strike="noStrike">
                <a:solidFill>
                  <a:srgbClr val="000000"/>
                </a:solidFill>
                <a:latin typeface="Courier New"/>
              </a:rPr>
              <a:t>Failed allocations: 0  </a:t>
            </a:r>
            <a:br>
              <a:rPr sz="1000"/>
            </a:br>
            <a:r>
              <a:rPr b="0" lang="en-US" sz="1000" spc="-1" strike="noStrike">
                <a:solidFill>
                  <a:srgbClr val="000000"/>
                </a:solidFill>
                <a:latin typeface="Courier New"/>
              </a:rPr>
              <a:t>MiniportDriverBlock: 817aa610</a:t>
            </a:r>
            <a:br>
              <a:rPr sz="1000"/>
            </a:br>
            <a:r>
              <a:rPr b="0" lang="en-US" sz="1000" spc="-1" strike="noStrike">
                <a:solidFill>
                  <a:srgbClr val="000000"/>
                </a:solidFill>
                <a:latin typeface="Courier New"/>
              </a:rPr>
              <a:t>  Miniport: 817b1130RAS Async Adapter</a:t>
            </a:r>
            <a:br>
              <a:rPr sz="1000"/>
            </a:br>
            <a:r>
              <a:rPr b="0" lang="en-US" sz="1000" spc="-1" strike="noStrike">
                <a:solidFill>
                  <a:srgbClr val="000000"/>
                </a:solidFill>
                <a:latin typeface="Courier New"/>
              </a:rPr>
              <a:t>Miniport Driver Block: 81a1ef30</a:t>
            </a:r>
            <a:br>
              <a:rPr sz="1000"/>
            </a:br>
            <a:r>
              <a:rPr b="0" lang="en-US" sz="1000" spc="-1" strike="noStrike">
                <a:solidFill>
                  <a:srgbClr val="000000"/>
                </a:solidFill>
                <a:latin typeface="Courier New"/>
              </a:rPr>
              <a:t>  Miniport: 81a1ea70 Direct Parallel  </a:t>
            </a:r>
            <a:br>
              <a:rPr sz="1000"/>
            </a:br>
            <a:r>
              <a:rPr b="0" lang="en-US" sz="1000" spc="-1" strike="noStrike">
                <a:solidFill>
                  <a:srgbClr val="000000"/>
                </a:solidFill>
                <a:latin typeface="Courier New"/>
              </a:rPr>
              <a:t>Miniport Driver Block: 81a21cd0</a:t>
            </a:r>
            <a:br>
              <a:rPr sz="1000"/>
            </a:br>
            <a:r>
              <a:rPr b="0" lang="en-US" sz="1000" spc="-1" strike="noStrike">
                <a:solidFill>
                  <a:srgbClr val="000000"/>
                </a:solidFill>
                <a:latin typeface="Courier New"/>
              </a:rPr>
              <a:t>  Miniport: 81a217f0 WAN Miniport (PPTP)  </a:t>
            </a:r>
            <a:br>
              <a:rPr sz="1000"/>
            </a:br>
            <a:r>
              <a:rPr b="0" lang="en-US" sz="1000" spc="-1" strike="noStrike">
                <a:solidFill>
                  <a:srgbClr val="000000"/>
                </a:solidFill>
                <a:latin typeface="Courier New"/>
              </a:rPr>
              <a:t>Miniport Driver Block: 81a23290</a:t>
            </a:r>
            <a:br>
              <a:rPr sz="1000"/>
            </a:br>
            <a:r>
              <a:rPr b="0" lang="en-US" sz="1000" spc="-1" strike="noStrike">
                <a:solidFill>
                  <a:srgbClr val="000000"/>
                </a:solidFill>
                <a:latin typeface="Courier New"/>
              </a:rPr>
              <a:t>  Miniport: 81a22130 WAN Miniport (L2TP)  </a:t>
            </a:r>
            <a:br>
              <a:rPr sz="1000"/>
            </a:br>
            <a:r>
              <a:rPr b="0" lang="en-US" sz="1000" spc="-1" strike="noStrike">
                <a:solidFill>
                  <a:srgbClr val="000000"/>
                </a:solidFill>
                <a:latin typeface="Courier New"/>
              </a:rPr>
              <a:t>Miniport Driver Block: 81a275f0</a:t>
            </a:r>
            <a:br>
              <a:rPr sz="1000"/>
            </a:br>
            <a:r>
              <a:rPr b="0" lang="en-US" sz="1000" spc="-1" strike="noStrike">
                <a:solidFill>
                  <a:srgbClr val="000000"/>
                </a:solidFill>
                <a:latin typeface="Courier New"/>
              </a:rPr>
              <a:t>  Miniport: 81a25130 Intel 8255x-based PCI Ethernet Adapter(10/100)</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miniport81a25130</a:t>
            </a:r>
            <a:br>
              <a:rPr sz="1000"/>
            </a:br>
            <a:r>
              <a:rPr b="0" lang="en-US" sz="1000" spc="-1" strike="noStrike">
                <a:solidFill>
                  <a:srgbClr val="000000"/>
                </a:solidFill>
                <a:latin typeface="Courier New"/>
              </a:rPr>
              <a:t>  Miniport81a25130 :Intel 8255x-based PCI Ethernet Adapter(10/100)</a:t>
            </a:r>
            <a:br>
              <a:rPr sz="1000"/>
            </a:br>
            <a:r>
              <a:rPr b="0" lang="en-US" sz="1000" spc="-1" strike="noStrike">
                <a:solidFill>
                  <a:srgbClr val="000000"/>
                </a:solidFill>
                <a:latin typeface="Courier New"/>
              </a:rPr>
              <a:t>     Flags :20413208 </a:t>
            </a:r>
            <a:br>
              <a:rPr sz="1000"/>
            </a:br>
            <a:r>
              <a:rPr b="0" lang="en-US" sz="1000" spc="-1" strike="noStrike">
                <a:solidFill>
                  <a:srgbClr val="000000"/>
                </a:solidFill>
                <a:latin typeface="Courier New"/>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etwork Monitor to Capture Network  Pack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erver comes with a tool named Network Monitor that lets you capture packets that flow through one or more NDIS miniport drivers on your system by installing an  NDIS intermediate driver. Before you can use Network Monitor, you need to have the  Windows Network Monitor Tools installed on your system. To install these tools, open  Add/Remove Programs in Control Panel, and select Add/Remove Windows Components. Select Management And Monitoring Tools, click Details, select Network Monitor  Tools, and click OK. After Network Monitor has been installed, you can launch Network  Monitor by selecting it from the Administrative Tools folder. Network Monitor might ask you which network connection you want to monitor. After  selecting one, begin monitoring by pressing the Start Capture button in the toolbar. Perform operations that generate network activity on the connection you’re monitoring,  and after you see that Network Monitor has captured packets, stop monitoring by clicking the Stop And View Capture button (the stop button that has glasses next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 descr=""/>
          <p:cNvPicPr/>
          <p:nvPr/>
        </p:nvPicPr>
        <p:blipFill>
          <a:blip r:embed="rId1"/>
          <a:stretch/>
        </p:blipFill>
        <p:spPr>
          <a:xfrm>
            <a:off x="685800" y="6705720"/>
            <a:ext cx="5194440" cy="22287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FC91E9-A532-4E11-83D7-E1B87388C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CCFDA6-6BC0-4136-939D-721E8CCA5B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01134C-35AA-4B4C-9822-9332B14D7E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09E397-F6D1-4F6E-9FFA-25B53829E6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882A6F-A5A5-4914-9A95-75853B1F54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5DAF46-08E7-4578-B359-1C93EFA0CC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6F63EF-DD19-4CA7-8EC9-A4FE934730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6B56A8-F6B2-47AA-BEFD-6F7A1466AC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F01AE8-F10C-45B9-A441-75617D5D8F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24B259-56C9-49B1-B9AA-25B464A334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8374E-BB1B-4F8C-ADAF-B0658166D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B76219-2AFB-496D-8D6F-CED01C6C08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D371-EC95-45E9-B035-2ABE71E368D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78EE700-76DF-4AAC-A9F6-7719C69611C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registered winsock trans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named pipes and named pipe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NetBIOS na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TDI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loaded NDIS mini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network packets with network mon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9DD29C-AF8B-43D5-AB23-D88A0A71F6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Registered Winsock Transpor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integrates with the Windows I/O model and uses file handles to represent socke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Ancillary Function Driver (AFD - \Windows\System32\Drivers\Afd.sys) implements  socket-based func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 a TDI client and executes network socket operations by sending TDI IRPs to protocol driver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n’t coded to  use particular protocol drivers; user-mode Msafd.dll informs AFD of the name of the protocol  used for each socke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opens the device object representing the protocol</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Sockets Configuration(Sporder.exe)</a:t>
            </a:r>
            <a:r>
              <a:rPr b="0" lang="en-US" sz="2000" spc="-1" strike="noStrike">
                <a:solidFill>
                  <a:srgbClr val="ffffff"/>
                </a:solidFill>
                <a:latin typeface="Arial"/>
              </a:rPr>
              <a:t> utility shows registered Winsock transport provid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BBB537-0799-4A8A-8BB0-9826BFFF20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Named Pipes and Named Pipe Activ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ipelist (Sysinternals) to see the named pipes on a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Sysinternals) to watch named pipe activity in real-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B035F8-F704-45BD-8A0F-B6629E36EB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stigating NetBIOS nam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relies on a naming convention</a:t>
            </a:r>
            <a:endParaRPr b="0" lang="en-US" sz="2400" spc="-1" strike="noStrike">
              <a:solidFill>
                <a:srgbClr val="ffffff"/>
              </a:solidFill>
              <a:latin typeface="Arial"/>
            </a:endParaRPr>
          </a:p>
          <a:p>
            <a:pPr lvl="1" marL="918000" indent="-336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s and network services are assigned a 16-byte name called a NetBIO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instance of a  unique NetBIOS name can be assigned to a network</a:t>
            </a:r>
            <a:endParaRPr b="0" lang="en-US" sz="2000" spc="-1" strike="noStrike">
              <a:solidFill>
                <a:srgbClr val="ffffff"/>
              </a:solidFill>
              <a:latin typeface="Arial"/>
            </a:endParaRPr>
          </a:p>
          <a:p>
            <a:pPr lvl="1" marL="918000" indent="-336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lient can broadcast messages by sending them to a group</a:t>
            </a:r>
            <a:endParaRPr b="0" lang="en-US" sz="2000" spc="-1" strike="noStrike">
              <a:solidFill>
                <a:srgbClr val="ffffff"/>
              </a:solidFill>
              <a:latin typeface="Arial"/>
            </a:endParaRPr>
          </a:p>
          <a:p>
            <a:pPr marL="331920" indent="-3319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utomatically defines a NetBIOS name for a domain </a:t>
            </a:r>
            <a:endParaRPr b="0" lang="en-US" sz="2400" spc="-1" strike="noStrike">
              <a:solidFill>
                <a:srgbClr val="ffffff"/>
              </a:solidFill>
              <a:latin typeface="Arial"/>
            </a:endParaRPr>
          </a:p>
          <a:p>
            <a:pPr lvl="1" marL="918000" indent="-3366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15 bytes of the  left-most DN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interoperability with Windows NT 4 systems as well as Consumer Windows</a:t>
            </a:r>
            <a:endParaRPr b="0" lang="en-US" sz="2000" spc="-1" strike="noStrike">
              <a:solidFill>
                <a:srgbClr val="ffffff"/>
              </a:solidFill>
              <a:latin typeface="Arial"/>
            </a:endParaRPr>
          </a:p>
          <a:p>
            <a:pPr marL="331920" indent="-3319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btstat.exe -n</a:t>
            </a:r>
            <a:r>
              <a:rPr b="0" lang="en-US" sz="2400" spc="-1" strike="noStrike">
                <a:solidFill>
                  <a:srgbClr val="ffffff"/>
                </a:solidFill>
                <a:latin typeface="Arial"/>
              </a:rPr>
              <a:t> shows NetBIOS-to-TCP/IP mapping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DCD9880-41AC-4A8B-90AE-9D814524A6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DI Activit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DIMon (Sysinternals) to watch TDI activity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any network resourc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DImon sees every IRP that TDI clients issue to network protocol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intercepting TDI client event callback registration, it also monitors event callba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FE829BD-5AB7-4FC5-9653-82096A6FC5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Network Driver Interface Specification (NDIS) miniports</a:t>
            </a:r>
            <a:endParaRPr b="0" lang="en-US" sz="4000" spc="-1" strike="noStrike">
              <a:solidFill>
                <a:srgbClr val="fe9900"/>
              </a:solidFill>
              <a:latin typeface="Arial"/>
            </a:endParaRPr>
          </a:p>
        </p:txBody>
      </p:sp>
      <p:sp>
        <p:nvSpPr>
          <p:cNvPr id="101" name="PlaceHolder 2"/>
          <p:cNvSpPr>
            <a:spLocks noGrp="1"/>
          </p:cNvSpPr>
          <p:nvPr>
            <p:ph/>
          </p:nvPr>
        </p:nvSpPr>
        <p:spPr>
          <a:xfrm>
            <a:off x="457200" y="1752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DIS-conforming network adapter drivers are called NDIS miniport driver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library (\Windows\System32\Drivers\Ndis.sys) implements the NDIS boundary  that exists between TDI transports (typically) and NDI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elper library that NDIS driver clients use to format commands they send to NDIS  driver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debugger shows minipor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ports  and !miniport comman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kd extension needs to be load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2E6E12-7EE5-4A73-8770-DF3D6FF67D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etwork Monitor to Capture Network Packets</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requires Windows 2000 Server or high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Network Monitor Tool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e Network Monitor to attach to a network connection</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etwork Monitor (netmon.ex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go to begin monitoring</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network activity</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stop to stop monitoring</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click on monitor event to reveal more inform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5A39C01-CC06-45C4-BCFF-352616C15F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9-16T12:39:13Z</cp:lastPrinted>
  <dcterms:modified xsi:type="dcterms:W3CDTF">2006-01-09T19:42:25Z</dcterms:modified>
  <cp:revision>59</cp:revision>
  <dc:subject>Windows Operating Systems Internals Course</dc:subject>
  <dc:title>Unit OS A: Lab Description &amp; Lab Manual</dc:title>
</cp:coreProperties>
</file>